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FA69-17BE-4045-9536-ABFADB9ED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B354-28D6-48FF-A4FC-E822F7D8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4D1D-3F99-48A7-AAB1-B4D7896EB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85BE-60CD-4F6F-A786-DBA4A27BB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6885-F079-484D-895D-B6843CB96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9A94-B7E4-4CC8-BF6E-219301F0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E752-B1C2-4B6E-AD7F-69E74D52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CB87-1551-44F3-96FC-27FE07F6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B166-0743-452E-965A-EA47BD0A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600A-E5D7-4D9A-9BC0-47D5029D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5169-196B-4A17-ABFC-E75704BF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49D3-848F-4BAB-9005-75CD0095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7027-7B1C-44E2-94E3-6547FC4F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542A-C205-4B3E-A394-D80733B1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FAC9-52F4-4266-9DE2-06C99E80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5811-D1D4-49CA-BF49-4D90653A9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E4D4-5194-4D99-883B-DF853124A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A469-680C-4AE6-A734-F0BD2063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16C5-B04F-4EAD-A7CF-1BB0515E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2781-F914-47F1-BD5C-798CE6A4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369A-8940-4928-A486-412BF0CC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5680-2F5A-4293-A029-910BDF68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4926-4601-40C6-A989-3F696A21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6CC7-E807-4E07-B059-2513BEFB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D06C-0501-479A-B701-AD73C7F7533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4B9A-9591-46ED-999B-0B660273F40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 Power of Relig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y: Jordan, Nicole, Maddy, Alex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undamentalism- in the U.S., a protestant movement characterized by the belief that the words of the Bible were inspired by God and should be interpreted literally and followed closel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vangelists- a fundamentalist preach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tler A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nnessee state law against the teaching of “any theory that denies the story of the Divine Creation of man as taught in the Bible.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st of the teachers of Tennessee wanted to challenge the Butler Ac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ohn Scopes’ trial began in July 10, 1925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34800" y="1371600"/>
            <a:ext cx="2988000" cy="38098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657600" y="1447920"/>
            <a:ext cx="4952880" cy="37335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131120" y="518148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ohn Scop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9880" y="5181480"/>
            <a:ext cx="20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arence Darr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45120" y="518148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illiam Jennings Bry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tler Act Cont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copes and Bryan both claimed victory on the trial. The jury took a couple of minutes to find Scoped guilty and fine him $100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Butler Act remained until 196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imee Semple McPhers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cPherson used show business to attract a radio following to her “Foursquare Gospel.”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raised $1.5 million to construct her Angelus Templ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762280" y="685800"/>
            <a:ext cx="3619440" cy="54864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188160" y="6280200"/>
            <a:ext cx="29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imee Semple McPher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15:18:01Z</dcterms:created>
  <dc:creator>TECH</dc:creator>
  <dc:description/>
  <dc:language>en-US</dc:language>
  <cp:lastModifiedBy>ASD</cp:lastModifiedBy>
  <dcterms:modified xsi:type="dcterms:W3CDTF">2010-06-22T21:11:43Z</dcterms:modified>
  <cp:revision>3</cp:revision>
  <dc:subject/>
  <dc:title>The Power of Religion</dc:title>
</cp:coreProperties>
</file>